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9299575" cy="7013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9298800" cy="70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5"/>
          </p:nvPr>
        </p:nvSpPr>
        <p:spPr>
          <a:xfrm>
            <a:off x="526860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2895480" y="525240"/>
            <a:ext cx="3508560" cy="26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40480" cy="3155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6"/>
          </p:nvPr>
        </p:nvSpPr>
        <p:spPr>
          <a:xfrm>
            <a:off x="-36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7"/>
          </p:nvPr>
        </p:nvSpPr>
        <p:spPr>
          <a:xfrm>
            <a:off x="526860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FFB96-E99E-4728-B3EB-0506E082316C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8560" cy="26305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40480" cy="31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26896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B5B1B-3B75-4714-9AF5-9AC02638BE70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6903-B85E-4A71-9D05-C607E7A8F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887F-0FA6-44B3-9DDC-1EBFD0EA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FFA53-0BDE-43E4-832B-86F2DB7B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7D5C17-161C-429C-AF61-1FC5DC4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4A39C-BA0C-4E87-8881-945B7B0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E228D-2536-4184-8BF6-DECA7E8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1DB62-87ED-4440-9313-667B042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056F5C-39C0-47F7-AC75-F78DA02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6B3E6-B229-4B32-8ADD-786B9260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6D6F6-D273-47A8-8EBF-FA004505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059A87-E6C0-465E-BCF9-D9DE92F6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3A311-F733-463B-A355-2AEA40D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B6B7-FC29-4095-80F9-1AAE6DB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B9EDE-90C4-4E4F-B98F-1DF947F5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B8718-36EF-4161-952C-DF79222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6DB13-6237-4772-BBFE-52B453C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212BF-958D-4355-95DD-462545E7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4043A-3A7A-4FF6-B81E-704EE1E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7553B-D1A8-48AA-86BD-5CC4F69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5F0F3-7C6E-4D86-9E6E-116A514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196ED-658D-4CF2-9803-5178F69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FD41D-4EA3-4344-A30B-9E11BCB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90796-73D2-43AE-A56C-1E78F5A7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4F22-042D-456A-9793-8DD3E641B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22445-2E32-495D-A670-B3C32326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01EE6-AF7C-4626-B30E-239B2E91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EE1493-224A-41D2-BBCC-22478419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B469E-09F9-41AC-BB16-AD01788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78B4A-49F0-46BB-8885-68C88A6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DF2086-ED3B-4675-917D-04EFCFE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72625-D03D-431A-9277-F403A91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64E33-4910-4193-8D1C-D9BDF97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607CB-B3D7-4CDB-9756-DD088B7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073AB9-824A-4885-B6DF-27CAD9A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30DCE1-72E6-4F51-9944-1001DA32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9DADBF-6C87-4536-962C-0F6D476C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043DE-8DED-405C-B91B-80BF633B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D64D28-3012-4E78-8F74-8E07411E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83F867-5D18-46B9-88A7-046FF5E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E1D6C7-C794-48DF-A8EA-B4A113C7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4EC109-3B1D-427D-9236-D0B2C26E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B73619-5B3D-4F72-BED8-2177517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FF4B70-E1CE-4142-8C1E-A8EE106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8147BE-682D-492C-A71D-7CA18FB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CEA19-45A7-4FAD-A88B-B7F5F3C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C4AA03-A45A-4BC2-9E63-3B15B9E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C4418D-1AD9-4343-9A6A-6F21AA2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9CBD93-E698-4B0B-9035-0C5435BF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6E4249-DDBB-43C6-912F-2BF5D9A2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7AB30-A597-4A4C-B33E-E1E25782F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BC4D3-648D-4C73-A278-D9A1E79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FE2BA-D1E3-489B-8B36-01085D0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F30C9-5F7B-41D0-89A2-ACE9D59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B07BC-9A0A-4689-8F8B-A980A1F2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EAF6F-4302-40AC-A65D-C05AF1E0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E2959-8F3C-468E-842E-145E7846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1BA1D-56F7-46EA-98E3-E39C7D0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5637E-F5DC-49AA-B7DC-5414973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00CE5-690A-4DC5-AA51-68C7DFF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75E8E-8228-44C6-A67F-0EF0B53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FD417-547A-43B8-A292-4C8191B19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A157-5A74-4E5E-B325-911B260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08B2-BE46-477B-A2DB-31352AD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BFB68-E860-459C-ACB1-4670058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4AB45-1209-4E4E-8F54-834CBD8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2656-E5B3-4CB3-AA61-2C3875D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59ADB-A1AD-4D27-8CC6-44E9530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BDCA-F915-4E34-909A-C5EF95B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B5F9-A7D8-497A-B69A-39B67E6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82DE-4396-448F-8904-B58E02E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2F142-B339-4A71-BBC2-435A50D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0BF4-F69F-413E-AA0D-6149941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4D52-DB61-4696-A592-C4392220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2144-799A-4C2B-94CE-0C6A8F97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5CE7F-A926-40F3-942A-B5AC0BE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0534C-11D3-4E7F-A755-314791B9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A4C9D-F880-4EF1-879C-5A9FB66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0BC2D-42E3-464D-A6AB-96A9E7F6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9A19-4F17-42BF-8001-BF32DA9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F5909-2E2F-479B-B794-29B6311C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E6FE2-CD24-49E5-8850-FBD8191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4C413-F771-4690-BDE3-BD178F2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9226B-B391-4AC9-B983-559AA6D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73797-32EF-4CF2-8619-624147E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C0041-15FC-47B0-9B2C-76DABE3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3C0C2-5238-4196-B39B-903916F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2C0CF-6B73-4E0B-AD9A-226CB1D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D9527-C84B-493A-9B01-E14A6294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5D95B-DAA8-43DF-B2B2-41274973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A966-3264-47F2-88D0-3A12FA2C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0F90B-7EE8-4213-BC83-1251C10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EB2C6-06DD-4B88-9281-A7370C1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7B43D-BFDC-4C9B-B0FE-66086D2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F9AC8-FEEE-490C-B2AC-D4B0065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0C540-E085-4279-8B7C-B411083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DEDF1-2139-48A0-8688-7FFC1AE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F4AA6-588A-46C2-A4EA-435803D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4FAC9-8FFE-4210-92E4-326D901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17B87-82B3-4ADC-9A54-5A4BA18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2C7F1-9716-4E4C-98DF-727DEDEF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D38B-2096-492B-98CB-3E074431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061A6-B5C9-4F7E-AD43-C5DBE74A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CA91B-A821-4A11-844C-CC686AB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5143F-0466-4949-88BF-876984D2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2C6F3-3AA1-4548-9C88-E81B29F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58B9A-53D4-479C-B3A0-BB4CB69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E8C9B-FF57-4817-AF20-4D5FB53C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69FF7-D7CB-42CD-A989-EFF94332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9B041-F4CD-45DA-B5A8-DE3C6A4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50C77-2DBE-48AD-904F-E37A4BF8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49344-319F-4C2E-B18C-917834F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954D-D37C-49AF-B6DB-57B2C96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1477E-35C3-47A7-937E-36EA5D3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3D7C0-302B-4183-9BE9-BCB8E847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CC2D0-469A-4272-936F-0D71750A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D0F22-9AE3-48F2-82A0-F086C508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C5CBE-23AF-446E-971E-A5665B1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99A02-E6A2-4B90-9439-2C7BFE66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66B5D-53F8-42DC-9744-04E8276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863F8-5548-4D20-B09E-00D1EA5F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15523-19BC-4B65-AB26-4A974A2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AC632-AA91-494D-8D29-86E46DAB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F58E-B5CA-4AAE-9484-4511649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9CDD9-93AF-46DB-A959-9133A85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E5A29-ADCB-45D6-B9B7-DE31AF6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79AE1-220B-4E43-A655-B6D8565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831B3-1A03-47C8-AA18-F76B7229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F4662-68DC-40C4-AAFC-B22780D3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12958-406C-4047-8CDA-FB45F6E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736AA-4816-4EC5-9A7D-68734FB9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C0CFE-F3C2-4831-872D-922B552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0894C-299B-4709-BEE3-D85C987A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2DC00-721D-44F8-A3BA-3A76E2A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675B-4B4B-475D-9654-4A6F87E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36475-05D3-41EB-96A1-CC52AFE4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06EAA-A04B-40E5-8E48-6CBE26C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72AD7-5F9E-4713-8C49-A468F6F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2E2CF-FB82-4D65-8A7D-06B025F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B424E-090E-457D-B4C8-48E3D43C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83ECD-8B67-42EA-B19F-34558183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77ACC-9DE9-46AA-A602-C925348C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12844-11FF-4F83-AB8D-3AB55BD6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726D2-5D23-4CE7-A7A0-3C01212E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A1836-F62C-4DE5-97A2-3267146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40A-6C52-44A4-95C7-91E301E5385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ABD-9285-44B2-968F-B6B4721301C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E8D4-06FD-4D0A-8F11-BB1E15B9681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39C-7805-49CC-9E90-333A886FAAA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4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C4A6-A320-42F4-817B-FB5E8B355A2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59B-05F9-40E0-9094-829250D8D49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E23-895D-462F-B16F-6F99D3C8D3D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C70-9582-4F52-9BFC-EE0C85ABAF9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00C-CA2E-4E52-9327-6FB0332EE2A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3B2-D436-4B43-AE30-E4AFCF226A9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1F47-D608-4E40-B8AE-5896654FF9F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13C2-155D-4CF1-B8E0-5C4A42962F3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GalaneSL@eskom.co.za" TargetMode="External"/><Relationship Id="rId2" Type="http://schemas.openxmlformats.org/officeDocument/2006/relationships/hyperlink" Target="mailto:GalaneSL@eskom.co.za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05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606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608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61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1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2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3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4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5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616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8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61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22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623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4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5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6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7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8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9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0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31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3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6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3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63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43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44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64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48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64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55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656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58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65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74960" y="1257120"/>
            <a:ext cx="580248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6"/>
                </a:solidFill>
                <a:latin typeface="Arial"/>
              </a:rPr>
              <a:t>CDD Water Site Irrigation Systems at Medupi Power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3058920" y="5178240"/>
            <a:ext cx="554508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13 September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Time: 09:00am – 11:00am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71520" y="2595600"/>
            <a:ext cx="55450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3058920" y="4220640"/>
            <a:ext cx="55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725b"/>
                </a:solidFill>
                <a:latin typeface="Arial"/>
              </a:rPr>
              <a:t>Questions or Comments??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698" name="Picture 56" descr=""/>
          <p:cNvPicPr/>
          <p:nvPr/>
        </p:nvPicPr>
        <p:blipFill>
          <a:blip r:embed="rId2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ADCF-C01A-4E1A-BD67-C380FD0541E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91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Welcome &amp; Introduc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afety-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vitation to Tender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ommercial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Mandatory Tender Returnables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Pre-qualification criteria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- Thomas Chue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cope of Work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Assa Lekoloane/Justice Mphahle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Evaluation Criteri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Functionality (Technical)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Assa Lekoloane/ Justice Mphahle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D&amp;L &amp; Preference points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Thomas Chue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ontractual Requirements (SHEQ)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Sehlare Modiba, Sebenzile Tshabalala &amp; Thabo Khoz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NEC-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oses Nonya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Price (BoQ) –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 Luyanda Msiph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General &amp; Questions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(All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losure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ation to T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36680" y="981000"/>
            <a:ext cx="837864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29320" indent="-229320">
              <a:lnSpc>
                <a:spcPct val="12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1. Enquiry number: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LPMED0048GX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(To be quoted in all correspondence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2. Contract duration –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Five (5) YEARS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3. Closing date &amp; time (1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5 September 2022 at 14h00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). NO LATE TENDER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4. Tender opening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enders will be opened at the same date and time as the tender deadline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ices </a:t>
            </a:r>
            <a:r>
              <a:rPr b="1" i="1" lang="en-US" sz="1800" spc="-1" strike="noStrike">
                <a:solidFill>
                  <a:srgbClr val="003896"/>
                </a:solidFill>
                <a:latin typeface="Arial"/>
              </a:rPr>
              <a:t>will not be read out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5. NEC contract terms and conditions (NEC3 ECC3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6. Tender validity period – 180 days (26 weeks) from closing date and tim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7. All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munication to be done via e-mail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c97a00"/>
                </a:solidFill>
                <a:latin typeface="Arial"/>
              </a:rPr>
              <a:t>DyariwM</a:t>
            </a:r>
            <a:r>
              <a:rPr b="0" lang="en-US" sz="1800" spc="-1" strike="noStrike" u="sng">
                <a:solidFill>
                  <a:srgbClr val="83725b"/>
                </a:solidFill>
                <a:uFillTx/>
                <a:latin typeface="Arial"/>
                <a:hlinkClick r:id="rId1"/>
              </a:rPr>
              <a:t>@</a:t>
            </a:r>
            <a:r>
              <a:rPr b="0" lang="en-US" sz="1800" spc="-1" strike="noStrike" u="sng">
                <a:solidFill>
                  <a:srgbClr val="83725b"/>
                </a:solidFill>
                <a:uFillTx/>
                <a:latin typeface="Arial"/>
                <a:hlinkClick r:id="rId2"/>
              </a:rPr>
              <a:t>eskom.co.z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NB: The Eskom Representative above shall be the single point of contact regarding queries associated with this enquiry and no other Eskom employee may communicate directly with the suppliers.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2293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Secondly, please send us your ID Copies of the people who will be attending, Car Registration number.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8. Deadline for clarifications (TBC)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9.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File indexing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29320" indent="-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59FB-40EE-4E66-9263-E9652980A9B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ation to Tender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36320" y="1052280"/>
            <a:ext cx="852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Mandatory Tender Returnabl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he tenderer shall submit an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original tender, plus 1 hard copy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f the original tender. Where a Tenderer does not submit a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e copy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of the original tender, such tenderer will be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disqualified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nnexures to the Invitation to tender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ompleted NEC pricing schedule and contract dat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entral Supplier Database (CSD) number (MAAA………..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896"/>
                </a:solidFill>
                <a:uFillTx/>
                <a:latin typeface="Arial"/>
              </a:rPr>
              <a:t>NB: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 Tenderers who do not submit these mandatory tender returnables will be disqualified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FFC-8F3C-4CAC-9131-47B04C5A9B8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Work &amp; Technical evaluat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24000" y="1052280"/>
            <a:ext cx="8378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COPE OF WORKS  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ppliers must tender as per Scope of work, no deviations wil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e allowed (See specification that was issued with the tender, ANNEXURE DT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TECHNICAL EVALUATION CRITERI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chnical evaluation will be done in three stages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1. Mandatory Require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2. Functionality – Desktop evalu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3.</a:t>
            </a:r>
            <a:r>
              <a:rPr b="0" lang="en-ZA" sz="1800" spc="-1" strike="noStrike">
                <a:solidFill>
                  <a:srgbClr val="003896"/>
                </a:solidFill>
                <a:latin typeface="CIDFont+F2"/>
              </a:rPr>
              <a:t> 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Supplier on-site Evalu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nderers who do not meet the threshold functionality scoring of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80%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will be disqualified and not be evaluated further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F7C-D1CD-4A1B-99D4-3728C7B220A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36680" y="1197000"/>
            <a:ext cx="83786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coring of Pric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ices will be scored out of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coring of B-BBE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B-BBEE status will be scored out of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 accordance with PPPFA Regulations 2017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ntract requirement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Quality, Safety, Environmental  and SDL&amp;I are contractual requirements for this contract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896"/>
                </a:solidFill>
                <a:uFillTx/>
                <a:latin typeface="Arial"/>
              </a:rPr>
              <a:t>NB: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 All documents requested as returnables in the Invitation to Tender must be submitted with the tender. Failure to do so will lead to disqualification from further evaluation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0397-7160-4397-BC09-7A0C118BE54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1760" y="16524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r Development, Localisation and &amp; Industrialization (SDL&amp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884-A0CF-481C-99CA-4DCA5DA2C0E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01760" y="1268280"/>
          <a:ext cx="8273880" cy="5040360"/>
        </p:xfrm>
        <a:graphic>
          <a:graphicData uri="http://schemas.openxmlformats.org/drawingml/2006/table">
            <a:tbl>
              <a:tblPr/>
              <a:tblGrid>
                <a:gridCol w="4279680"/>
                <a:gridCol w="3994200"/>
              </a:tblGrid>
              <a:tr h="105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BBEE Status Level of Contributor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oint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0/10 system)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409680"/>
                          <a:tab algn="ctr" pos="787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509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compliant contributor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of the contract – NEC3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18680" y="1196640"/>
            <a:ext cx="837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Main Op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A: Priced contract with active schedu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W1: Dispute resolution procedu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Secondary Options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2: Changes in the law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7: Delay Damag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15 Limitation of Contractor’s Liability for Design to reasonable skill ca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16 Reten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17: Low service damag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18: Limitation of Liability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Z: Additional conditions of contrac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46368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7AE-AFA3-4BDB-93F3-51A350CD475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of the contract – NEC3 T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18680" y="1196640"/>
            <a:ext cx="837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Price list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46368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236B-03FE-4923-8476-763F961E298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Mzi Dyariwe</cp:lastModifiedBy>
  <cp:lastPrinted>2022-08-11T07:02:25Z</cp:lastPrinted>
  <dcterms:modified xsi:type="dcterms:W3CDTF">2022-09-09T10:15:59Z</dcterms:modified>
  <cp:revision>5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47</vt:lpwstr>
  </property>
  <property fmtid="{D5CDD505-2E9C-101B-9397-08002B2CF9AE}" pid="3" name="display_urn:schemas-microsoft-com:office:office#Owner">
    <vt:lpwstr>Vic Pretorius</vt:lpwstr>
  </property>
</Properties>
</file>